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9AB-1A8C-4340-B875-6F8D09FF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6F9-4C5D-478A-A7F8-38E19AA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252-66EA-40FD-96EB-15DBD47F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84E-E025-45A1-8541-945DAB80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8FC-B5EA-4B2D-88F8-A4222E5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945-B7E4-45B7-8904-A677910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03D-8E7A-49F4-9F51-6F223103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20F-9313-4763-8B0F-539D8052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842-0CDF-483E-AADF-7FB8887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6C4-3C6A-4863-8869-B2BB50F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B0E-DBFC-4BE0-B20F-E6CCB15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144-B410-4332-9DF2-82ADDAB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D0B6-97F3-46B1-B3BE-9694A00DE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32000" y="609588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© 2008 Bowland Charitable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0106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Fun with the sun</a:t>
            </a:r>
            <a:br>
              <a:rPr sz="4400"/>
            </a:b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- a bit of theory and an origami sund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3640" y="27338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19840" y="2773440"/>
            <a:ext cx="3600360" cy="207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3640" y="2873520"/>
            <a:ext cx="36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9840" y="2808360"/>
            <a:ext cx="3600360" cy="200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060640"/>
            <a:ext cx="6985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ou now need to make a support to hold your sundial at the correct angle for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ight angl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iangular prism where one of the angles is equal to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your angle of latitude is 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° then the angles of the triangle will be 51°, 90° and 39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869000"/>
            <a:ext cx="1656000" cy="1224000"/>
          </a:xfrm>
          <a:prstGeom prst="rtTriangle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450828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573372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492360" y="4508640"/>
            <a:ext cx="165600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40000" y="4292640"/>
            <a:ext cx="2448000" cy="720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40000" y="4221000"/>
            <a:ext cx="3024000" cy="1800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4292640"/>
            <a:ext cx="2592360" cy="1728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80708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6308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767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8500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6093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fold a sundial like this from a sheet of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809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919160"/>
            <a:ext cx="36212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9840" y="1992240"/>
            <a:ext cx="36003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3640" y="2065320"/>
            <a:ext cx="3600360" cy="348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19840" y="2066760"/>
            <a:ext cx="3600360" cy="348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360036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73240" y="175248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19840" y="2046240"/>
            <a:ext cx="3600360" cy="3525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3640" y="2805120"/>
            <a:ext cx="3600360" cy="200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19840" y="2790720"/>
            <a:ext cx="360036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544500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n’t matter which side you fold over –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 can have the plain or coloured side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9:51:43Z</dcterms:created>
  <dc:creator>Peter Ransom</dc:creator>
  <dc:description/>
  <dc:language>en-US</dc:language>
  <cp:lastModifiedBy>Ransom</cp:lastModifiedBy>
  <dcterms:modified xsi:type="dcterms:W3CDTF">2008-05-13T21:30:03Z</dcterms:modified>
  <cp:revision>24</cp:revision>
  <dc:subject/>
  <dc:title>Fun with the sun</dc:title>
</cp:coreProperties>
</file>